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2051-A269-46B3-BCEB-71B3782B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FEE3-B09F-49AE-8D14-1E67D8C2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23B5-AED4-4B0B-9F5C-EAAD4A5B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255C-D8D3-4763-B753-FCFA08A4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E0CF-C52A-4FB5-B621-6A7A1470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4767-1766-4E3C-BC75-1D1B0DA9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0B64-85EE-4551-90D5-979E9143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AF40-5BBB-4E7B-A4E4-773A1A96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F69E-DC2E-4C2B-9836-648492DE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68A0-DEF8-4F4D-814F-E40468C3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54B7-D197-4796-8FDF-ED920310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EF55-8D4C-43BF-BF18-83700C0F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A632-6FC6-40B3-8F1A-4E632B08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EBD8-5380-40E7-BFE5-A2FB23FF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ACD1-2D7C-4593-9A68-268D26CD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2A60-FCF9-4B93-9B9D-0250BE8C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03AE-6561-481E-95D0-9C021FAA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2620-B05C-4C1A-80C6-20CE2420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AB82-3575-445E-8FE3-2786F6E3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906-E70F-4B05-80F9-60163381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0776-076A-47DF-8244-BC91194E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1413-DF76-4829-AC3F-5CAA6898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414B-3D05-4B3B-B978-E7EEC12C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7A0-E5AA-4C7B-AE3F-76D5DC63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606E-9485-46DB-A7EC-6FA669255E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9AD7-2AF1-4AD7-9E44-5C5FCF3F18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nderstanding Postwar Tens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 History – Chapter 2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rcRect l="0" t="9599" r="0" b="0"/>
          <a:stretch/>
        </p:blipFill>
        <p:spPr>
          <a:xfrm>
            <a:off x="-1523880" y="0"/>
            <a:ext cx="1219176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ction 6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during Racial and Religious Ten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d Section 6 an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 five causes and three effects of tension discussed in this se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cco &amp; Vanzet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d Page 331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ditional Fac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c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alia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9 years ol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rrying a gu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olved in labor strik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ft U.S. during WW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rchi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nzet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alia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2 years ol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rrying a gu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olved in labor strik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ft U.S. during WW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rchi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ading Not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6.2 Emerging Economic Tens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6.3 Rising Labor Tens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6.4 Growing Political Tens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6.5 Increasing Social Tens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st three causes and three effects for each tension listed in each S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 26.2 Emerging Economic Ten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use 1 = The federal government cancelled wartime contrac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ffect 1 = Hundreds of factories clos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ction 2 – Economic Tens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280" y="2133720"/>
            <a:ext cx="8991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ction 3 – Labor Tens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ction 4 – Political Tens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91440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ction 5 – Social Tens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5:09:41Z</dcterms:created>
  <dc:creator> </dc:creator>
  <dc:description/>
  <dc:language>en-US</dc:language>
  <cp:lastModifiedBy>School District U46</cp:lastModifiedBy>
  <dcterms:modified xsi:type="dcterms:W3CDTF">2010-11-15T12:57:36Z</dcterms:modified>
  <cp:revision>8</cp:revision>
  <dc:subject/>
  <dc:title>Understanding Postwar Tensions</dc:title>
</cp:coreProperties>
</file>